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6717-B86F-4841-8B37-74ACFC336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A35A-387B-49E1-B9EC-7AD48E94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19DF-DF9F-498E-B02A-47F3A34C3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6620-0AF9-4FF5-ABCA-C828CC520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15D0-450B-4036-9A00-1DD4BF7E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CA23-CDE5-4E5F-9E35-3E8FED52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D2D5-56BB-42FE-9009-785E9340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12F1-63D7-495B-AA5A-13830284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927F-306F-4341-8E1E-ABB91F86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46AE-8603-42A0-967F-6EFB5EAF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9936-24D2-47ED-9831-9663151F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622F-2A2C-44C8-88A3-10E57543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3E2A-8E6F-41FD-B90D-FBC9D7B80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9:20:48Z</dcterms:created>
  <dc:creator>abeason</dc:creator>
  <dc:description/>
  <dc:language>en-US</dc:language>
  <cp:lastModifiedBy>abeason</cp:lastModifiedBy>
  <dcterms:modified xsi:type="dcterms:W3CDTF">2009-01-26T19:20:52Z</dcterms:modified>
  <cp:revision>1</cp:revision>
  <dc:subject/>
  <dc:title>Slide 1</dc:title>
</cp:coreProperties>
</file>